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CD872-97EE-46D3-9909-6318488F23FA}" type="slidenum"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9DF117-3A43-4C56-92D2-A48BF2E6B804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CC6298-95AC-4E51-8721-3C19C83BE75E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4FCDD1-C0D1-4696-BD19-43D764C89C28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B0B085-AD51-46BA-9CFC-CEA77ECD994C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ED2EB1-7851-4F5F-908E-D33B5B8C8A16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A70F03-5B8E-45B0-B204-ABE094EF7E62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1CC734-99AD-4896-B5EE-AD4B9A4BEDE4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668C83-7AFB-492B-97A0-1A4E604FD687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B6AFA6-9D9B-4371-8D9A-086CAE26FECE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386B89-7C88-4D63-9758-E5284F439A36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42CB8C-04CA-4A65-82CA-94FE8B5BFB46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83F428-69E9-4BE7-B201-9537CE91EE4C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D90-A2E5-418C-BEC6-40B84D26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E2D-60B1-4A38-B9B8-910A59B3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F7AF-5853-44A1-A464-D4D37E61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EDCB-5B57-4A43-9AFB-76D395EE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C543-D6D4-40BF-A897-04B00062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5978-6406-4A68-AC34-F5757DD6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5684-8155-43DF-BFDB-4A6A496C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6750-8C02-4068-BF03-8BAB39D1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F82C-3200-4CFC-993F-17C69A53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9A0E-0F34-4FB7-AEF1-7F3293C1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D670-633F-45D5-8A3A-FF2AC947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5CB-9C5D-4CCA-AD07-36F9E7EB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0472-5166-48F3-8FC5-C0833A24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0454-7FFD-4F59-BB24-99FA529D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F9F2-2996-42DA-A8F5-97EEB7AA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E2EB-AB49-450A-9926-F96D08B9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C635-B1C1-49A7-A5BA-EDF2AA60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C3246-9C18-4601-9FA6-D2D21146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0AFA4-389D-4D23-A3C6-3BEF141A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F5947-5CF9-4295-96D9-BF8AC3BE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9A932-2C3A-4020-BC05-1570E9B3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2414A-B136-4137-8637-288530D9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56C-4906-45C4-91CB-F3CE0C7A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34D2B-940E-4418-ABC6-937A3ECA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5CB0D-34E1-40D1-BEFA-BCF94AEB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DDE77-5010-4F45-BB34-35A2496C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94681-6A04-4F28-8925-4AE39BDF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FFD3B-FC0B-46E8-A8C6-984C7A5D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9D362-C91E-4AE4-BBDA-8D6A12F8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FF1F9-A15B-436B-979C-E5E6F4AA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11E5-1AA5-4BA9-837F-C536D394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9950-5917-48E1-B0EF-DC5D27FE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37C1-A9C8-4841-9D4E-F15244F1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22E4-06DD-4913-9A9A-03C09A6C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3399-B861-4684-A4F0-EBDB8386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1E5-6276-4DE0-856C-B4C70BFA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/07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4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FDCF61-4888-4F36-A88D-A3694E5FE3F4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205080" y="765000"/>
            <a:ext cx="4114800" cy="31244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413080" y="0"/>
            <a:ext cx="309420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B52D057-E2CB-494D-9A57-198D313567AD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3222720" y="304920"/>
            <a:ext cx="11908080" cy="4722840"/>
            <a:chOff x="-3222720" y="304920"/>
            <a:chExt cx="11908080" cy="4722840"/>
          </a:xfrm>
        </p:grpSpPr>
        <p:sp>
          <p:nvSpPr>
            <p:cNvPr id="93" name=""/>
            <p:cNvSpPr/>
            <p:nvPr/>
          </p:nvSpPr>
          <p:spPr>
            <a:xfrm>
              <a:off x="1447920" y="2514600"/>
              <a:ext cx="723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2514600" y="1371600"/>
              <a:ext cx="3656160" cy="36561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3222720" y="304920"/>
              <a:ext cx="4037040" cy="4037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2880" y="985320"/>
            <a:ext cx="723744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23C4A1E-64FB-4CB6-9DCD-1F80085BEA8B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125360"/>
            <a:ext cx="7345440" cy="342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OŚWIADCZENIE DECENTRALIZA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RAN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tąpienie p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Jean-Benoît ALBERTINI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yrektor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stępcy Pełnomocnika Międzyresortowego do spraw Zagospodarowania Przestrzennego Kraju i Konkurencyjnoś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awni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DAT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5516640"/>
            <a:ext cx="42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Seminarium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KS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Warszaw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- 12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grudni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1584000" cy="576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0DB1-34ED-4338-965A-596E19BF71C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1280" y="692280"/>
            <a:ext cx="82296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posiada też swojeg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region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y jest mianowanym przez rząd przedstawicielem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 on rolę administracyj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ą i polityczną w ramach regionu. Ma w tym celu do dyspozycji sekretarza generalnego do spraw regionalnych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(SGAR)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ieruje zdekoncentrowanymi służbami państw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alizuje politykę rządu w odniesieniu do wielkich projek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uje legalność i przestrzeganie reguł budżetow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konywanych na szczeblu regionu zadań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pracowu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rzedstawiając informacje i propozyc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lityki w dziedzinie rozwoju gospodarczo-społecznego ora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Animuje i koordynuje działania prefektów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6D2E-D377-4D70-86D2-0676672D45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4360" y="47628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dzieli się n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6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ów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2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na terenie metropoli 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4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y zamorski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skład regionu wchodzi kilka departamen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zarządzany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regionalną,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bieraną na okres sześciu lat w wyborach bezpośrednich i powszech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ą one rolę koordynacyjno-planistycz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dzięki pewnej liczbie kompetencj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w dziedzinie 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trzymują część podatków krajowych i dysponują budżetem, który obdzielają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óżne dziedz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z tych regionów zamorskich takich jak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wadelup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ujana Francusk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artynika i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éunion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jest jednocześnie zamorskim departamente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 ta mogłaby zniknąć w przypadku fuzji zgromadzeń regionalnych i departament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D959-52C0-4D55-9232-F10287F18DF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-108000" y="765000"/>
            <a:ext cx="8242200" cy="4589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56360" y="157644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1844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0000" y="16714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85D8-13E6-4A42-9740-EF54A5E9A5E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8920" y="549360"/>
            <a:ext cx="87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departament posiad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departament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la jego polega 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 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czuwaniu nad utrzymaniem porządku publicznego i bezpieczeństwa osób i dóbr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eniu możliwości sprawowania praw i swobód obywatelsk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aniu zdrowej sytuacji w dziedzinie ochrony środowiska oraz poszanowania dziedzictwa kulturalnego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i legalności działań samorządów lok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drażaniu i koordynacji polityk krajowych lub wspólnotowych na szczeblu lokalny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 przewodniczy kolegium naczelników wydziałów, w skład którego wchodzą prefekt, podprefekci i naczelnicy wydziałów poszczególnych instancji administracyj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ojekty budżetów zdekoncentrowanych służb administracyjnych przedkładane są prefekt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15236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FACB-9B3F-491E-9F42-1F941F1DB52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1484280"/>
            <a:ext cx="78483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składa się z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plus 4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y zamorski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 zarządzany jest przez radę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eneralną wybieraną na okres sześciu lat w bezpośrednich wyborach powszech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mpetencje 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koncentrowane na poziomie bardziej lokaln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nkurują częstokroć z kompetencjami reg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ziałania socjaln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rogownictw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edukacj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 i dziedzictwo naro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lokaln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transport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lnictwo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26684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026A-7141-4D30-8A07-2B194B5FBCD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50920" cy="388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720" y="901800"/>
            <a:ext cx="8242560" cy="459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FAE1-8AED-427F-AA11-BC9F7C95191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476280"/>
            <a:ext cx="82296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Terytorium Francji składa się 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36 783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których każda odpowiada na ogół terytorialnie obszarowi miasta lub wiosk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zarządzana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miejsk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ej członkowie wybierani są na sześć lat w bezpośrednich powszechnych wybora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miejsca wybiera ze swego skład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era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- będącego przedstawicielem państwa, który obarczony jest zadaniem przestrzegania decyzji rady -  jego zastępców, którym można delegować pewne zadani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Ludność gminy określa liczbę radnych miejskich, maksimu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dysponuje budżetem składającym się zasadniczo z transferów ze strony państwa oraz lokalnych podatków bezpośredn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zarządza sprawami gm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dejmuje decyzje dotyczące zarządzania gmi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wyjątkiem sytuacji, kiedy mocą jakiegoś tekstu obowiązek ten obarcza Mera lub też władzę administracyjną innego rodz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przyjmuje wreszcie lokalny plan urbanistycz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A290-61D1-45B9-A9A0-2917118BDEA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42200" cy="5132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29200" y="471492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92360" y="2080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spółpraca międzygmin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39A8-45AA-4700-B250-FEC93D170C0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71280" y="7128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B1DE-22E7-4385-8BA3-771F2E243A8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00000" y="1197000"/>
            <a:ext cx="806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Celem jest tutaj usprawnienie współpracy pomiędzy gminami, które mają wspólne interesy. Istnieje kilka rodzajów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kładów publicznych współpracy międzygminnej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(EPCI)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oraz kilka poziomów współprac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styczni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008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91,7%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we Francji metropolitalnej było zrzeszonych w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 583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ch międzygmin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 obszarze terytoriów zamor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ędzygminnych struktur zrzes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76,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i regionów zamorskich. Istniej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 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08108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EF9B-C023-44A4-8076-BB611CBCC8F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47640" y="206064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429264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Temat podlegający ciągłym zmianom od 25 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4B35-94B4-4437-A003-1F57C3FC7E2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1280" y="549360"/>
            <a:ext cx="83516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4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miej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jwyższy stopień współpracy międzygmin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otyczą one jednostek obejmujących pon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z przynajmniej jednym miastem licząc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posiadają szeroki zakres kompeten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(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gospodarc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rządzanie transporte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urbanistyk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wod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odpadam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t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69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Jednostki te liczą co 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są zorganizowane wokół ośrodka liczącego przy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osiadają więc one mniej kompetencji o charakterze obowiązkow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2400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bez minimalnego progu liczby 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ch kompetencje obowiązkowe mają jeszcze węższy charakter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ystępują również innego rodzaju struktury międzygminne, jak na przykł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355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ra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przypadku chodzi o obszary, które cechuje spójność geograficz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lna lub społeczna.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adni i podmioty gospodarcze jednoczą tu swe wysiłki w celu realizacji lokalnych projek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6800">
              <a:lnSpc>
                <a:spcPct val="100000"/>
              </a:lnSpc>
              <a:tabLst>
                <a:tab algn="l" pos="0"/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2415-7F98-471B-A290-F96FD3035AB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041920" y="403200"/>
            <a:ext cx="57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ozwój zintegrowanych związków międzygminn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1197000"/>
          <a:ext cx="7345080" cy="5316120"/>
        </p:xfrm>
        <a:graphic>
          <a:graphicData uri="http://schemas.openxmlformats.org/drawingml/2006/table">
            <a:tbl>
              <a:tblPr/>
              <a:tblGrid>
                <a:gridCol w="1945080"/>
                <a:gridCol w="1282680"/>
                <a:gridCol w="1338840"/>
                <a:gridCol w="1175040"/>
                <a:gridCol w="16034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8724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zeszenia posiadające własny ustrój podatkow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7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 36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 52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63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tym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DOM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. zamorskich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7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 760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 9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2 31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909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1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2,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56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eń działających na zasadzie </a:t>
                      </a: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PU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jedn. stawka od dział. zaw.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4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 1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656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6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 14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4 38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22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,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D8D3-6466-4725-BFCA-F2A584299F9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3 – </a:t>
            </a:r>
            <a:r>
              <a:rPr b="1" lang="pl-PL" sz="2400" spc="-1" strike="noStrike">
                <a:solidFill>
                  <a:srgbClr val="009900"/>
                </a:solidFill>
                <a:latin typeface="Arial"/>
              </a:rPr>
              <a:t>Gospodarcze i finansowe znaczenie decentralizacj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3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udżety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owa budżetu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388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€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K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Inwestycje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56,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2,5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kraju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7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administracji publicz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Urzędnicy i pracownicy samorząd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1,8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 osób na dzień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31/12/0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całości pracowników publicz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5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E : 2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a osób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H : 1, 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 osó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256B-DBFE-45C9-9E52-A774CA2DE56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993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3160" indent="-8316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ozchody samorządów lokalnych w roku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 2007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7% DRF (140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27% DRI (56,6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4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datków osobowych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2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3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 tytułu transferów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8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Regio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4,4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11,7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partament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61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30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ktor gminny i międzygmin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: 122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58,6%) (89,8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gmin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32,5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r. międzygminn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049400" cy="38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7EA7-F69F-4471-AEB5-FDE3939FECC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125360"/>
            <a:ext cx="734364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Przychody samorządów lokalnych w roku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Verdana"/>
              </a:rPr>
              <a:t> 2007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: 207,8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l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81% RRF (169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% RRI (20,5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,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owych pożyczek, al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3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wrot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94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atków i opłat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58% RR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4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32% RRF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41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ubwencji państwow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363F-EF41-4F36-848F-A5F961914A7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41050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4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Lokalny system podatkowy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82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ezpośrednie podatki lokalne składają się głównie z 4 rodzajów opł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gruntow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0,8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1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TP : 29,1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44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od nieruchomości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20,4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31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mieszkaln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15,2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23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B :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Najważniejszym podatnikiem na szczeblu lokalnym jest państw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ulg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mniejszenie wymiaru należnego podatku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  nie mające wpływu na podstawę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rekompens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ejmowanie strat bazowych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008 : DCTP 11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soit 37,5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; 4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tytuł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TH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czyli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7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26648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D71E-5050-4910-833B-B2F3C44BE8F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9074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5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Stosunki finansowe pomiędzy państwem i samorządam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93680" y="1699920"/>
            <a:ext cx="8050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d roku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1996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rzewidywalność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=&gt;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Pakt stabilności finansowej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acja inflacji w skali trzyletni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999-2007 :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a wzrostu i solidar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a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 +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snąca część PKB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-1 (1999 : 20%, 2000 : 25%; 2001-2007: 33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 2008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stanowien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y stabil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ej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1,6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I 2009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ielkość transferów państwowych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55,1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 roku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8)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zwiększa się w sposób normowany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: +2% (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flacji w okres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9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1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50AE-F3F7-4FAD-A0AB-69C10E4547A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54936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6 –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odział kompete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1341360"/>
            <a:ext cx="7956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miana teoretycznych odniesień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auzula kompetencji ogóln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loki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ek przewodnich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726A-145E-4EAE-B3C3-5E93F7F93BC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81080" cy="360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16000" y="692280"/>
            <a:ext cx="46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elkie dziedziny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1413000"/>
          <a:ext cx="8283240" cy="3969720"/>
        </p:xfrm>
        <a:graphic>
          <a:graphicData uri="http://schemas.openxmlformats.org/drawingml/2006/table">
            <a:tbl>
              <a:tblPr/>
              <a:tblGrid>
                <a:gridCol w="1296720"/>
                <a:gridCol w="1224360"/>
                <a:gridCol w="2948760"/>
                <a:gridCol w="2813400"/>
              </a:tblGrid>
              <a:tr h="5616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istyka i transp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lokalnych planów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banis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cznych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schematów spójności terytoria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da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zwoleń na budowę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ortów jachtowy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ich wniosek, złożony do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jakimkolwi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rzekazywanych im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ów handlowych i ryba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żeli wyrażą takie życzenie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ami cywi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cz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i wyposażenie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zkół publi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definiowaniu karty szko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tworze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pięcioletniego ekspery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kalnych publicznych placówek szkolnictwa podstaw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dla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znaw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y po uzyskaniu akceptacji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stanawiania jednostek informacji turysty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9DF1-FB29-4D7B-8A94-544B9ECCDA9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539640" y="1413000"/>
          <a:ext cx="8426160" cy="3514320"/>
        </p:xfrm>
        <a:graphic>
          <a:graphicData uri="http://schemas.openxmlformats.org/drawingml/2006/table">
            <a:tbl>
              <a:tblPr/>
              <a:tblGrid>
                <a:gridCol w="1295640"/>
                <a:gridCol w="1152720"/>
                <a:gridCol w="3115080"/>
                <a:gridCol w="2862720"/>
              </a:tblGrid>
              <a:tr h="1326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lokalnego programu w sferz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delegowania na rzecz mera lub prezes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PCI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a kontyngentem prefektury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czestniczenia w budow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u i wyposaż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ów studen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alczanie szkodliwych warunków zamieszkiwania - eksperymental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w dziedzinie zdrowia i sferze socjalnej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komplementarne w stosunku do działań departa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gminnymi ośrodkami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CCAS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życzalnie książek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jskie konserwatoria i muze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początkowego nauczania artystycz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gą stawać się właścicielami sklasyfikowanych lub zewidencjonowanych zabytków historycznych należących do państwa lub też do Krajowego Centrum Zabytków History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C833-A020-410A-87BE-94BC6FCD9C8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1341360"/>
            <a:ext cx="845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900" spc="-1" strike="noStrike">
                <a:solidFill>
                  <a:srgbClr val="009900"/>
                </a:solidFill>
                <a:latin typeface="Arial"/>
              </a:rPr>
              <a:t>1.</a:t>
            </a: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900" spc="-1" strike="noStrike" u="sng">
                <a:solidFill>
                  <a:srgbClr val="009900"/>
                </a:solidFill>
                <a:uFillTx/>
                <a:latin typeface="Arial"/>
              </a:rPr>
              <a:t>Społeczno-polityczny oraz instytucjonalny kontekst decentralizacj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198900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060640"/>
            <a:ext cx="7993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Francuskie instytu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nitarne trady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ładza państwowa i konsensus społecz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rganizacja zdecentralizowan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wolucja ujęta w odpowiednie ra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781360"/>
            <a:ext cx="79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6D80-36B8-4711-9647-1E7B9F81E3C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95280" y="1341360"/>
          <a:ext cx="8570520" cy="3541320"/>
        </p:xfrm>
        <a:graphic>
          <a:graphicData uri="http://schemas.openxmlformats.org/drawingml/2006/table">
            <a:tbl>
              <a:tblPr/>
              <a:tblGrid>
                <a:gridCol w="1297080"/>
                <a:gridCol w="1224360"/>
                <a:gridCol w="3389400"/>
                <a:gridCol w="2659680"/>
              </a:tblGrid>
              <a:tr h="4464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socjalne, solidarność, 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zastrzeżeniem sytuacji wyjątkowych odpowiada całościowo za świadczenia z tytułu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y społe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społeczna na rzecz dziec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dla osób niepełnospraw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cja społeczno-zawo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RMI-RMA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)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na rzecz osób starsz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a zdrowia rodziny i dzieck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uje i wdraża politykę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eksperymentalne na teranie niektórych departamentów o poszerzonych kompetencjach w dziedzi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y sądowej młodzież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, infrastruk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oraz inwestycje w sferz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ogownictwa departament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niemiejskiego drogowego przewozu osób 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u szko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a obszarem miast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 i wyposaż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skich portów handlowych i rybacki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zarządzanie nim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programu wspiera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ktury obszarów wiej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ęścią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oł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 000 km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óg kraj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terytorium kra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7F86-61F2-4937-958F-F200C4B8693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979640" y="1197000"/>
          <a:ext cx="6914880" cy="3673080"/>
        </p:xfrm>
        <a:graphic>
          <a:graphicData uri="http://schemas.openxmlformats.org/drawingml/2006/table">
            <a:tbl>
              <a:tblPr/>
              <a:tblGrid>
                <a:gridCol w="1128600"/>
                <a:gridCol w="3342960"/>
                <a:gridCol w="2443320"/>
              </a:tblGrid>
              <a:tr h="19454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ctw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ich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centralne wypożyczalnie książ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hiwa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muzeami departamenta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nabór 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 kadrą techniczną, robotnikami i pracownikami usługowymi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6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na rzecz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dziel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owych po uzyskaniu akceptacji ze strony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9640" y="1197000"/>
          <a:ext cx="1441080" cy="3673080"/>
        </p:xfrm>
        <a:graphic>
          <a:graphicData uri="http://schemas.openxmlformats.org/drawingml/2006/table">
            <a:tbl>
              <a:tblPr/>
              <a:tblGrid>
                <a:gridCol w="1441080"/>
              </a:tblGrid>
              <a:tr h="34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a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F28B-6CF1-49C4-9F07-D9808EBE1BD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755640" y="907920"/>
          <a:ext cx="7994160" cy="4627440"/>
        </p:xfrm>
        <a:graphic>
          <a:graphicData uri="http://schemas.openxmlformats.org/drawingml/2006/table">
            <a:tbl>
              <a:tblPr/>
              <a:tblGrid>
                <a:gridCol w="1008000"/>
                <a:gridCol w="1729080"/>
                <a:gridCol w="2659680"/>
                <a:gridCol w="2597400"/>
              </a:tblGrid>
              <a:tr h="62892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zwój gospodarcz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na, gdzie region odgrywa rolę koordynato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reśla system pomocy bezpośrednich i je przyznaj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 premie za zatrudni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orzenie przedsiębiorstw jak też pożyczki i zaliczki na zasadach preferencyjnych stóp procent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drażanie i przyznawanie pomocy o charakterze pośredni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warancje dla przedsiębiorstw zaciągających pożyczk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olnienie z podatku od działalności zawodow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a regionalna określ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pomocy gospodarczej dla przedsiębiorstw i decyduje o jej przyzna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rozwoju gospodarcz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eksperymentalnym na lat pię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 i planow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wypracowywaniu krajowej polityki w dziedzinie zagospodarowania przestrzennego i trwałego rozwo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ieranie umów planu wiążących państwo i region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rok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7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mowy projektow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schematu przewoz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w dziedzinie infrastruktury i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wniej: regionalny schemat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kimkolwiek 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81CB-8669-421A-B020-6DCCB91497D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684360" y="1125360"/>
          <a:ext cx="8210160" cy="2778120"/>
        </p:xfrm>
        <a:graphic>
          <a:graphicData uri="http://schemas.openxmlformats.org/drawingml/2006/table">
            <a:tbl>
              <a:tblPr/>
              <a:tblGrid>
                <a:gridCol w="1079280"/>
                <a:gridCol w="1656360"/>
                <a:gridCol w="2548440"/>
                <a:gridCol w="2926080"/>
              </a:tblGrid>
              <a:tr h="2098080">
                <a:tc rowSpan="2"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ształcenie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odow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 i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szkolnych specjalnego przeznaczenia oraz techników mor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kształcenie zawodowego oraz 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edukacyjnych o charakterze specjalnym oraz techników morski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dry technicz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botników i pracowników usługowych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i wdrażanie regionalnej polityki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kształcenia zawodowego młodzieży i dorosły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az już w ramach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muze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erwacja i dowartościowanie archiw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w dziedzinie ogólnej inwentaryzacji dziedzictwa kultur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BDA2-8FEE-452E-9F89-D4AF5859B49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4608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7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Mechanizmy regulacyjne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56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rola przedstawiciela państ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legalnośc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budżeto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sparcie kadrowe w sferze lokalnego systemu podatkoweg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EB2E-7A13-4774-8E1C-1A18E8434A3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47640" y="206064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03280" y="4221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Wyzwania w toczącej się obecnie dyskus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32FA-97E4-4843-8321-DEFEEECA873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1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roces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francuskiej 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napoleonki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53840" y="1988640"/>
            <a:ext cx="6589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brak jasności, jeśli chodzi o odpowiedzialność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potrzeba zmian lokalnego systemu podatkoweg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reforma karty gminne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znaczenie opłat obowiązkowych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DAFE-F043-4FCF-9F16-99AF3BDC0B1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3534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Ogólny przegląd polityk publicznych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 :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kontekst sprzyjający reformie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« 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Jeden szczebel 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iższe podatk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 » 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ielość scenarius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ączenie szczebl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owy podział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à la car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ścisły rozdział kompetencj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iec krzyżowych form finansowan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6324480" y="647712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47712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18A7-42B5-4EEB-B2D3-4866183BC26B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2920" y="1413000"/>
            <a:ext cx="74898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Odniesienia konstytucyjne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. 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rancja jest Republiką niepodziel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aick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emokratyczną i społecz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pewnia wszystkim obywatelom równość wobec prawa bez względu na pochodzenie, rasę czy religię. Szanuje wszystkie wyznani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rganizacja kraju ma charakter zdecentralizowany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 7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kami samorządu terytorialnego Republiki są gminy, departamenty, regiony, społeczności posiadające status szczególny oraz społeczności zamorskie podlegające postanowieniom zawartym w artykul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74. […]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szczególne jednostki samorządu terytorialnego powołane są do tego, aby podejmować decyzje w zakresie wszystkich tych kompetencji, które mogą być najlepiej wdrożone na ich szczeblu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[…]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klauzula kompetencji ogólnych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522F-2BB0-410B-B424-1DCE3AAFA18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42920" y="0"/>
            <a:ext cx="7921800" cy="67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Art. 72-2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Jednostki samorządu terytorialnego korzystają z zasobów, którymi mogą dysponować na warunkach ustalonych przez prawo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swoboda zarząd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Mogą one otrzymywać całość lub część przychodów podatkowych wszelkiego rodzaju. Ustawowo mogą uzyskać pozwolenie na ustalanie podstawy wymiaru podatków oraz stopy podatkowej w ustawowo określonych granica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uprawnienia podatkow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Przychody podatkowe oraz pozostałe środki własne jednostek samorządu terytorialnego stanowią, w przypadku każdego rodzaju samorządu, zdecydowaną część całości ich przychodów. Ustawa organiczna ustala warunki wdrażania tej reguł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środki włas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Każdorazowo transferowi kompetencji przez państwo na szczebel samorządow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towarzyszy przydział środków odpowiadający kwotowo tym, które były przeznaczane na ich sprawowanie. Każdorazowemu utworzeniu lub poszerzeniu kompetencji, pociągającemu za sobą wzrost wydatków samorządowych,  towarzyszą ustawowo określane środki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całościowa rekompensata transferów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: CCEC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/KDOT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Ustawa przewiduje system wyrównań mających sprzyjać równości jednostek samorządowy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064360" y="0"/>
            <a:ext cx="1079640" cy="4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01D7-1BD6-4C2F-A798-FFCCC901BAE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189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amorządo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truktury Fra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1197000"/>
            <a:ext cx="309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centraliz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amorząd terytorialny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26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region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100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partament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36 783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g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połeczności zamors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koncentr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zedstawiciele państwa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region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departament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odprefekci i zdekoncentrowane służby państwa zorganizowane w ośrod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14720" y="189000"/>
            <a:ext cx="4950000" cy="62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4FFB-5556-44C0-AC0D-EE800F3D3466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00000" y="62064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Sytuacja we Francji a samorządy lokalne w Euro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42920" y="1773360"/>
          <a:ext cx="7778520" cy="2729880"/>
        </p:xfrm>
        <a:graphic>
          <a:graphicData uri="http://schemas.openxmlformats.org/drawingml/2006/table">
            <a:tbl>
              <a:tblPr/>
              <a:tblGrid>
                <a:gridCol w="1511280"/>
                <a:gridCol w="1658160"/>
                <a:gridCol w="1511640"/>
                <a:gridCol w="1513080"/>
                <a:gridCol w="158436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ranc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emc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jednoczon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ólestw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och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szpan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0,2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,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7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9 0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56 9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44 0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01 2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4 8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ów/państw federal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6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rabst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spólnot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omicz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0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26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81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5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6 679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068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 074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 0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1403-AE61-4C52-B79D-0D231935055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2276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. 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Tandem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Decentralizacja/Dekoncentrac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313D-2F76-4EA2-9C6F-229CBDEF6F1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-108000" y="836640"/>
            <a:ext cx="8242200" cy="4584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1916280"/>
            <a:ext cx="25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1628640"/>
            <a:ext cx="35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7F8B-2660-423B-A7CB-1A772EBDA90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04:38Z</dcterms:created>
  <dc:creator>Wojciech Gilewski</dc:creator>
  <dc:description/>
  <dc:language>en-US</dc:language>
  <cp:lastModifiedBy>KAS</cp:lastModifiedBy>
  <dcterms:modified xsi:type="dcterms:W3CDTF">2009-02-05T11:39:09Z</dcterms:modified>
  <cp:revision>398</cp:revision>
  <dc:subject>Présentation de la DIACT</dc:subject>
  <dc:title>DIACT, la délégation interministérielle à l’aménagement et à la compétitivité des territoires</dc:title>
</cp:coreProperties>
</file>